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455-B0CF-46D9-B562-E1BB33F4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81D-60CC-4533-A8E8-8297CD5A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2AF-06F9-4371-9CA9-B5D6AA81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AC5-B54F-4C0A-B0ED-2CDEAE07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CEE-AAAB-4689-B19D-E8CB94F8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A6F-95BB-4316-A351-59CF5589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5F6-AFFF-4682-8688-4B939748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5DA-8432-4F5A-838E-1625974F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DE3-308E-411A-BB7F-17E32DED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9FC-C7B6-4C16-B928-7DFD089E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B91-A7F4-4FD6-9D2E-37B5828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E82-8BED-4678-BE02-4F385D7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39C4-E9E8-4F05-9DB0-B35AE6D0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upload.wikimedia.org/wikipedia/commons/b/b6/Hermit_crab_corcovado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upload.wikimedia.org/wikipedia/commons/d/da/Grapsus_grapsus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Pelican_lakes_entrance02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en/6/65/Asco-nado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76320"/>
            <a:ext cx="4495680" cy="330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24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128520"/>
            <a:ext cx="4419360" cy="314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054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File:Chelonia mydas is going for the air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49568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9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Hermit crab corcovad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549600"/>
            <a:ext cx="4343400" cy="323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Grapsus grapsu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46392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Pelican lakes entranc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304920"/>
            <a:ext cx="4419360" cy="294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File:Asco-nad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20" y="3505320"/>
            <a:ext cx="4419360" cy="312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Black-headed Gull - St James's Park, London - Nov 2006.jpg"/>
          <p:cNvPicPr/>
          <p:nvPr/>
        </p:nvPicPr>
        <p:blipFill>
          <a:blip r:embed="rId5"/>
          <a:stretch/>
        </p:blipFill>
        <p:spPr>
          <a:xfrm>
            <a:off x="4724280" y="119160"/>
            <a:ext cx="4267440" cy="3157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Clownfish sprain water3.jpg"/>
          <p:cNvPicPr/>
          <p:nvPr/>
        </p:nvPicPr>
        <p:blipFill>
          <a:blip r:embed="rId6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21:09:55Z</dcterms:modified>
  <cp:revision>11</cp:revision>
  <dc:subject/>
  <dc:title>Slide 1</dc:title>
</cp:coreProperties>
</file>